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736-BFA6-4301-9C49-71BCA5AC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D3E-69F2-4C84-A9A2-D0E4FD38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97A-4BA5-4916-9407-537D8256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9BE-17F4-479B-8E01-98926971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0A6-FCFE-4E2E-9F12-F4E697E4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AA4-435D-48E9-A2E0-B8991518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3EB-F8D9-419A-A022-F2283297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0BB-5889-4C62-BA27-9F22581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364-0489-4343-97CE-D4F8725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264-F51D-495E-AE86-2AED8FC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6D3-DF66-460B-A8F8-C4C34A18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35A-5E04-4E4B-B81A-B086632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2C7-2904-4159-A7E0-5B77D9C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535-9941-4FD8-89E4-CAF6AB6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60F-C69C-4F10-970B-4F991055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ándo nos vemos ?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haciendo mi tarea de escuela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ein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as haciend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res tu amiga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40:33Z</dcterms:created>
  <dc:creator>FriscoISD</dc:creator>
  <dc:description/>
  <dc:language>en-US</dc:language>
  <cp:lastModifiedBy>NYCDOE</cp:lastModifiedBy>
  <dcterms:modified xsi:type="dcterms:W3CDTF">2012-12-06T15:11:10Z</dcterms:modified>
  <cp:revision>102</cp:revision>
  <dc:subject/>
  <dc:title>Profile</dc:title>
</cp:coreProperties>
</file>